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E70-5B45-4333-91DC-22287214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2DD-7991-47DC-A191-FFA071CE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C2E-5B59-4293-93E2-F86239B5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3E-10B3-400F-B740-8C63DD5A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0DC-14B1-4704-9329-A695D3F3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A6E-8BF5-4DDC-93CA-BBE2EC2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5C4-B4DD-48A7-908A-AF19C94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A54-968B-41A9-B5EC-E22CE6AE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5E5-C17A-472A-858D-42A285C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BAE-B603-46DE-9C12-77038A6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584-8080-49AA-BD9A-4AA248F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AD9-D5D9-4F09-B0FA-644DFF4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6C72-F119-4DE2-A44F-9060A100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62" t="22917" r="312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127" t="26042" r="3127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6042" r="783" b="7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27" t="14584" r="3127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06:08Z</dcterms:created>
  <dc:creator>Patrick J. Mooney</dc:creator>
  <dc:description/>
  <dc:language>en-US</dc:language>
  <cp:lastModifiedBy>Patrick J. Mooney</cp:lastModifiedBy>
  <dcterms:modified xsi:type="dcterms:W3CDTF">2010-03-03T22:44:01Z</dcterms:modified>
  <cp:revision>4</cp:revision>
  <dc:subject/>
  <dc:title>Slide 1</dc:title>
</cp:coreProperties>
</file>